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F7F-3882-4817-A457-3082246F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787-F0C6-4636-BB96-1B3D32D5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627-84A7-4583-91A1-ACACE253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3FC-22AF-4187-AC5D-61D6AEF7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D9B-CEB3-4650-A5FB-AFAEC44E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DCF-1B0D-4FBC-A083-8C473FF3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E77-FE68-4CAA-8867-AFCEE3BA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83F-5335-4C50-9FE5-E0E4C4AA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45D-65DE-4972-8261-9CBC701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4CA-C922-4CBC-ADF2-04CE6DA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439-D903-44A4-A5F7-FAF49E3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811-C66F-416A-9399-E468F1D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C27-D32C-424E-A787-C9753E797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67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68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69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71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72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73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74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75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76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77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78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79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8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81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82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83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84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85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86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87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88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89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90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91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92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9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94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95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96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7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98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99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00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1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02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03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04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05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07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08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09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10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11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12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13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14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15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16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417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18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41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20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421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22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23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24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25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26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27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28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9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0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31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3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33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34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35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6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37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38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39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40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41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42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43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44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4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46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47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48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49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50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52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53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54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55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56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57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5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59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60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61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62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63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64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65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66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67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68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69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70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7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72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73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74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75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76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77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78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79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80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81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82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83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8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85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86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7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88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89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90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91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92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93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94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95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96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98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99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500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01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502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503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04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05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06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07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08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09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10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511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1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513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514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15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16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17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518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519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20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21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22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523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24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25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26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2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528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29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30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531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3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33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34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35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36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37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538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39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540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41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4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43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544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545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546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54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48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49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50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51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52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53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54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55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56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57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58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59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60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61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6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63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64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65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66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68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69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70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71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72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73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7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75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76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77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78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10:00:01Z</dcterms:modified>
  <cp:revision>11</cp:revision>
  <dc:subject/>
  <dc:title>Présentation PowerPoint</dc:title>
</cp:coreProperties>
</file>